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310-D854-4684-9541-4D85C333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DCE-1E8F-48FC-894E-61D30BB8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84A-B729-41DF-A0D3-3B3E54A9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4C3-BC58-4164-B361-3AFB0D31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113-8EB9-4BDB-9BE8-6279A668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604-58E4-4AFF-9FC5-AC3DB0EF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848-AC30-4A07-BD0A-BD557E73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58D-7B86-4C2E-8F60-232259E5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348-9408-48E5-9F97-DA71CFF3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EFC-35B8-45A6-8DD3-30A749C4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BA9-1279-4A56-A13F-E9021606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A93-FA44-457B-9FF2-C1E4DEFD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7190-44F0-4523-A0E8-D5C933742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760" y="95400"/>
            <a:ext cx="882504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mmercial Water Use</a:t>
            </a:r>
            <a:br>
              <a:rPr sz="37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2200" y="6721560"/>
            <a:ext cx="1784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r. Mart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200" y="3083040"/>
            <a:ext cx="4097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thekoratpost.com/images/Pizzashop.jp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48480" y="3083040"/>
            <a:ext cx="3554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ccff"/>
                </a:solidFill>
                <a:uFillTx/>
                <a:latin typeface="Arial"/>
              </a:rPr>
              <a:t>www.officeinmiami.com/office/815ponce.htm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4600" y="6002280"/>
            <a:ext cx="46576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nelsonmotel.co.nz/nm_images/pool_palms.jp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59280" y="1062000"/>
            <a:ext cx="3257640" cy="2005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8080" y="895320"/>
            <a:ext cx="3789360" cy="208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125880" y="3441600"/>
            <a:ext cx="36385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0720" y="1734840"/>
            <a:ext cx="9420120" cy="31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ical Water Us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as all water used in any type of business, office or restaurant.  It also includes locations where people work, such as motels, prisons and military b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1680" y="1371600"/>
            <a:ext cx="9478800" cy="54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.9 Bgal/day drawn from ground water - 30 % of u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6.7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Bgal/day from public supply - 70 % of u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9.6 Bgal/day is used for  Commerical Water Use out of             340 Bgal/day used in the US/day -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3 % of all water used each day in the US is used for Commercial purpos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amount of people using water commercially varies widely by geography, season, and time of yea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1360" y="168120"/>
            <a:ext cx="9306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mmercial Water Usage In The U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39720" y="1406520"/>
            <a:ext cx="849168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amount of people using water commercially varies widely by geography, season, and time of yea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mounts for commerical water use are included as part of other uses, so the USGS does not provide individual state information. 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 concerns of commercial water uses are reliability of supply, water pollution, droughts, climate change affecting availabilty of water and cost.  Anything that impacts the availability of water will affect a businesses ability to operat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600" y="254160"/>
            <a:ext cx="8870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mmercial Water Use Statistic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